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24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3E0-EC78-43CB-8761-2BF6F32E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CC6-E25A-4D8A-BB75-97A77E2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CEE-5A1D-4D86-9BA8-C860F45E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ABF-6A2E-4048-BC08-0A6DAEB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F9D-3B36-497B-8B36-F647150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DC6-A154-4E2A-ABFC-155E701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2A7-1EB6-409B-9202-463841B4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1D4-E9F4-4556-90D4-7158CED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C7F-7359-4E28-A06F-1F8E5D4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40F-1FB2-420D-8892-04DE1EE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218-9940-44DA-AE8A-AE64C80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D76-D353-45C0-938E-93465B9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981B-6AC5-420D-99DE-D3E40DF2C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6320" y="944640"/>
            <a:ext cx="863640" cy="298440"/>
            <a:chOff x="706320" y="944640"/>
            <a:chExt cx="863640" cy="298440"/>
          </a:xfrm>
        </p:grpSpPr>
        <p:grpSp>
          <p:nvGrpSpPr>
            <p:cNvPr id="42" name=""/>
            <p:cNvGrpSpPr/>
            <p:nvPr/>
          </p:nvGrpSpPr>
          <p:grpSpPr>
            <a:xfrm>
              <a:off x="706320" y="944640"/>
              <a:ext cx="863640" cy="298440"/>
              <a:chOff x="706320" y="944640"/>
              <a:chExt cx="863640" cy="298440"/>
            </a:xfrm>
          </p:grpSpPr>
          <p:sp>
            <p:nvSpPr>
              <p:cNvPr id="43" name=""/>
              <p:cNvSpPr/>
              <p:nvPr/>
            </p:nvSpPr>
            <p:spPr>
              <a:xfrm>
                <a:off x="706320" y="9446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70440" y="9446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7080" y="94464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725040" y="963000"/>
              <a:ext cx="825480" cy="261000"/>
              <a:chOff x="725040" y="963000"/>
              <a:chExt cx="825480" cy="261000"/>
            </a:xfrm>
          </p:grpSpPr>
          <p:sp>
            <p:nvSpPr>
              <p:cNvPr id="47" name=""/>
              <p:cNvSpPr/>
              <p:nvPr/>
            </p:nvSpPr>
            <p:spPr>
              <a:xfrm>
                <a:off x="725040" y="9630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64320" y="9630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59680" y="96300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933480" y="96156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06320" y="1368360"/>
            <a:ext cx="863640" cy="298440"/>
            <a:chOff x="706320" y="1368360"/>
            <a:chExt cx="863640" cy="298440"/>
          </a:xfrm>
        </p:grpSpPr>
        <p:grpSp>
          <p:nvGrpSpPr>
            <p:cNvPr id="52" name=""/>
            <p:cNvGrpSpPr/>
            <p:nvPr/>
          </p:nvGrpSpPr>
          <p:grpSpPr>
            <a:xfrm>
              <a:off x="706320" y="1368360"/>
              <a:ext cx="863640" cy="298440"/>
              <a:chOff x="706320" y="1368360"/>
              <a:chExt cx="863640" cy="298440"/>
            </a:xfrm>
          </p:grpSpPr>
          <p:sp>
            <p:nvSpPr>
              <p:cNvPr id="53" name=""/>
              <p:cNvSpPr/>
              <p:nvPr/>
            </p:nvSpPr>
            <p:spPr>
              <a:xfrm>
                <a:off x="706320" y="13683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70440" y="13683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47080" y="136836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25040" y="1386720"/>
              <a:ext cx="825480" cy="261000"/>
              <a:chOff x="725040" y="1386720"/>
              <a:chExt cx="825480" cy="261000"/>
            </a:xfrm>
          </p:grpSpPr>
          <p:sp>
            <p:nvSpPr>
              <p:cNvPr id="57" name=""/>
              <p:cNvSpPr/>
              <p:nvPr/>
            </p:nvSpPr>
            <p:spPr>
              <a:xfrm>
                <a:off x="725040" y="13867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64320" y="13867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59680" y="138672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933480" y="138528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06320" y="1792440"/>
            <a:ext cx="863640" cy="298440"/>
            <a:chOff x="706320" y="1792440"/>
            <a:chExt cx="863640" cy="298440"/>
          </a:xfrm>
        </p:grpSpPr>
        <p:grpSp>
          <p:nvGrpSpPr>
            <p:cNvPr id="62" name=""/>
            <p:cNvGrpSpPr/>
            <p:nvPr/>
          </p:nvGrpSpPr>
          <p:grpSpPr>
            <a:xfrm>
              <a:off x="706320" y="1792440"/>
              <a:ext cx="863640" cy="298440"/>
              <a:chOff x="706320" y="1792440"/>
              <a:chExt cx="863640" cy="298440"/>
            </a:xfrm>
          </p:grpSpPr>
          <p:sp>
            <p:nvSpPr>
              <p:cNvPr id="63" name=""/>
              <p:cNvSpPr/>
              <p:nvPr/>
            </p:nvSpPr>
            <p:spPr>
              <a:xfrm>
                <a:off x="706320" y="17924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70440" y="17924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47080" y="179244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725040" y="1810800"/>
              <a:ext cx="825480" cy="261000"/>
              <a:chOff x="725040" y="1810800"/>
              <a:chExt cx="825480" cy="261000"/>
            </a:xfrm>
          </p:grpSpPr>
          <p:sp>
            <p:nvSpPr>
              <p:cNvPr id="67" name=""/>
              <p:cNvSpPr/>
              <p:nvPr/>
            </p:nvSpPr>
            <p:spPr>
              <a:xfrm>
                <a:off x="725040" y="18108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64320" y="18108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59680" y="181080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933480" y="180936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06320" y="2216160"/>
            <a:ext cx="863640" cy="298440"/>
            <a:chOff x="706320" y="2216160"/>
            <a:chExt cx="863640" cy="298440"/>
          </a:xfrm>
        </p:grpSpPr>
        <p:grpSp>
          <p:nvGrpSpPr>
            <p:cNvPr id="72" name=""/>
            <p:cNvGrpSpPr/>
            <p:nvPr/>
          </p:nvGrpSpPr>
          <p:grpSpPr>
            <a:xfrm>
              <a:off x="706320" y="2216160"/>
              <a:ext cx="863640" cy="298440"/>
              <a:chOff x="706320" y="2216160"/>
              <a:chExt cx="863640" cy="298440"/>
            </a:xfrm>
          </p:grpSpPr>
          <p:sp>
            <p:nvSpPr>
              <p:cNvPr id="73" name=""/>
              <p:cNvSpPr/>
              <p:nvPr/>
            </p:nvSpPr>
            <p:spPr>
              <a:xfrm>
                <a:off x="706320" y="22161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70440" y="22161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47080" y="221616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25040" y="2234520"/>
              <a:ext cx="825480" cy="261000"/>
              <a:chOff x="725040" y="2234520"/>
              <a:chExt cx="825480" cy="261000"/>
            </a:xfrm>
          </p:grpSpPr>
          <p:sp>
            <p:nvSpPr>
              <p:cNvPr id="77" name=""/>
              <p:cNvSpPr/>
              <p:nvPr/>
            </p:nvSpPr>
            <p:spPr>
              <a:xfrm>
                <a:off x="725040" y="22345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64320" y="22345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9680" y="223452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933480" y="223308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06320" y="2639880"/>
            <a:ext cx="863640" cy="298440"/>
            <a:chOff x="706320" y="2639880"/>
            <a:chExt cx="863640" cy="298440"/>
          </a:xfrm>
        </p:grpSpPr>
        <p:grpSp>
          <p:nvGrpSpPr>
            <p:cNvPr id="82" name=""/>
            <p:cNvGrpSpPr/>
            <p:nvPr/>
          </p:nvGrpSpPr>
          <p:grpSpPr>
            <a:xfrm>
              <a:off x="706320" y="2639880"/>
              <a:ext cx="863640" cy="298440"/>
              <a:chOff x="706320" y="2639880"/>
              <a:chExt cx="863640" cy="298440"/>
            </a:xfrm>
          </p:grpSpPr>
          <p:sp>
            <p:nvSpPr>
              <p:cNvPr id="83" name=""/>
              <p:cNvSpPr/>
              <p:nvPr/>
            </p:nvSpPr>
            <p:spPr>
              <a:xfrm>
                <a:off x="706320" y="263988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70440" y="263988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47080" y="263988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25040" y="2658240"/>
              <a:ext cx="825480" cy="261000"/>
              <a:chOff x="725040" y="2658240"/>
              <a:chExt cx="825480" cy="261000"/>
            </a:xfrm>
          </p:grpSpPr>
          <p:sp>
            <p:nvSpPr>
              <p:cNvPr id="87" name=""/>
              <p:cNvSpPr/>
              <p:nvPr/>
            </p:nvSpPr>
            <p:spPr>
              <a:xfrm>
                <a:off x="725040" y="265824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64320" y="265824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59680" y="265824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933480" y="265680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6320" y="3063960"/>
            <a:ext cx="863640" cy="298440"/>
            <a:chOff x="706320" y="3063960"/>
            <a:chExt cx="863640" cy="298440"/>
          </a:xfrm>
        </p:grpSpPr>
        <p:grpSp>
          <p:nvGrpSpPr>
            <p:cNvPr id="92" name=""/>
            <p:cNvGrpSpPr/>
            <p:nvPr/>
          </p:nvGrpSpPr>
          <p:grpSpPr>
            <a:xfrm>
              <a:off x="706320" y="3063960"/>
              <a:ext cx="863640" cy="298440"/>
              <a:chOff x="706320" y="3063960"/>
              <a:chExt cx="863640" cy="298440"/>
            </a:xfrm>
          </p:grpSpPr>
          <p:sp>
            <p:nvSpPr>
              <p:cNvPr id="93" name=""/>
              <p:cNvSpPr/>
              <p:nvPr/>
            </p:nvSpPr>
            <p:spPr>
              <a:xfrm>
                <a:off x="706320" y="30639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70440" y="30639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7080" y="306396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25040" y="3082320"/>
              <a:ext cx="825480" cy="261000"/>
              <a:chOff x="725040" y="3082320"/>
              <a:chExt cx="825480" cy="261000"/>
            </a:xfrm>
          </p:grpSpPr>
          <p:sp>
            <p:nvSpPr>
              <p:cNvPr id="97" name=""/>
              <p:cNvSpPr/>
              <p:nvPr/>
            </p:nvSpPr>
            <p:spPr>
              <a:xfrm>
                <a:off x="725040" y="30823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64320" y="30823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9680" y="308232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3480" y="308088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06320" y="3489480"/>
            <a:ext cx="863640" cy="298440"/>
            <a:chOff x="706320" y="3489480"/>
            <a:chExt cx="863640" cy="298440"/>
          </a:xfrm>
        </p:grpSpPr>
        <p:grpSp>
          <p:nvGrpSpPr>
            <p:cNvPr id="102" name=""/>
            <p:cNvGrpSpPr/>
            <p:nvPr/>
          </p:nvGrpSpPr>
          <p:grpSpPr>
            <a:xfrm>
              <a:off x="706320" y="3489480"/>
              <a:ext cx="863640" cy="298440"/>
              <a:chOff x="706320" y="3489480"/>
              <a:chExt cx="863640" cy="298440"/>
            </a:xfrm>
          </p:grpSpPr>
          <p:sp>
            <p:nvSpPr>
              <p:cNvPr id="103" name=""/>
              <p:cNvSpPr/>
              <p:nvPr/>
            </p:nvSpPr>
            <p:spPr>
              <a:xfrm>
                <a:off x="706320" y="348948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70440" y="348948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7080" y="348948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25040" y="3507840"/>
              <a:ext cx="825480" cy="261000"/>
              <a:chOff x="725040" y="3507840"/>
              <a:chExt cx="825480" cy="261000"/>
            </a:xfrm>
          </p:grpSpPr>
          <p:sp>
            <p:nvSpPr>
              <p:cNvPr id="107" name=""/>
              <p:cNvSpPr/>
              <p:nvPr/>
            </p:nvSpPr>
            <p:spPr>
              <a:xfrm>
                <a:off x="725040" y="350784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64320" y="350784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59680" y="350784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933480" y="350640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06320" y="3913200"/>
            <a:ext cx="863640" cy="298440"/>
            <a:chOff x="706320" y="3913200"/>
            <a:chExt cx="863640" cy="298440"/>
          </a:xfrm>
        </p:grpSpPr>
        <p:grpSp>
          <p:nvGrpSpPr>
            <p:cNvPr id="112" name=""/>
            <p:cNvGrpSpPr/>
            <p:nvPr/>
          </p:nvGrpSpPr>
          <p:grpSpPr>
            <a:xfrm>
              <a:off x="706320" y="3913200"/>
              <a:ext cx="863640" cy="298440"/>
              <a:chOff x="706320" y="3913200"/>
              <a:chExt cx="863640" cy="298440"/>
            </a:xfrm>
          </p:grpSpPr>
          <p:sp>
            <p:nvSpPr>
              <p:cNvPr id="113" name=""/>
              <p:cNvSpPr/>
              <p:nvPr/>
            </p:nvSpPr>
            <p:spPr>
              <a:xfrm>
                <a:off x="706320" y="39132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0440" y="39132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7080" y="391320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25040" y="3931560"/>
              <a:ext cx="825480" cy="261000"/>
              <a:chOff x="725040" y="3931560"/>
              <a:chExt cx="825480" cy="261000"/>
            </a:xfrm>
          </p:grpSpPr>
          <p:sp>
            <p:nvSpPr>
              <p:cNvPr id="117" name=""/>
              <p:cNvSpPr/>
              <p:nvPr/>
            </p:nvSpPr>
            <p:spPr>
              <a:xfrm>
                <a:off x="725040" y="39315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64320" y="39315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59680" y="393156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33480" y="393012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6320" y="4336920"/>
            <a:ext cx="863640" cy="298440"/>
            <a:chOff x="706320" y="4336920"/>
            <a:chExt cx="863640" cy="298440"/>
          </a:xfrm>
        </p:grpSpPr>
        <p:grpSp>
          <p:nvGrpSpPr>
            <p:cNvPr id="122" name=""/>
            <p:cNvGrpSpPr/>
            <p:nvPr/>
          </p:nvGrpSpPr>
          <p:grpSpPr>
            <a:xfrm>
              <a:off x="706320" y="4336920"/>
              <a:ext cx="863640" cy="298440"/>
              <a:chOff x="706320" y="4336920"/>
              <a:chExt cx="863640" cy="298440"/>
            </a:xfrm>
          </p:grpSpPr>
          <p:sp>
            <p:nvSpPr>
              <p:cNvPr id="123" name=""/>
              <p:cNvSpPr/>
              <p:nvPr/>
            </p:nvSpPr>
            <p:spPr>
              <a:xfrm>
                <a:off x="706320" y="43369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70440" y="43369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7080" y="433692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25040" y="4355280"/>
              <a:ext cx="825480" cy="261000"/>
              <a:chOff x="725040" y="4355280"/>
              <a:chExt cx="825480" cy="261000"/>
            </a:xfrm>
          </p:grpSpPr>
          <p:sp>
            <p:nvSpPr>
              <p:cNvPr id="127" name=""/>
              <p:cNvSpPr/>
              <p:nvPr/>
            </p:nvSpPr>
            <p:spPr>
              <a:xfrm>
                <a:off x="725040" y="43552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64320" y="43552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59680" y="435528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933480" y="435384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6320" y="4761000"/>
            <a:ext cx="863640" cy="298440"/>
            <a:chOff x="706320" y="4761000"/>
            <a:chExt cx="863640" cy="298440"/>
          </a:xfrm>
        </p:grpSpPr>
        <p:grpSp>
          <p:nvGrpSpPr>
            <p:cNvPr id="132" name=""/>
            <p:cNvGrpSpPr/>
            <p:nvPr/>
          </p:nvGrpSpPr>
          <p:grpSpPr>
            <a:xfrm>
              <a:off x="706320" y="4761000"/>
              <a:ext cx="863640" cy="298440"/>
              <a:chOff x="706320" y="4761000"/>
              <a:chExt cx="863640" cy="298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06320" y="47610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70440" y="47610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080" y="476100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25040" y="4779360"/>
              <a:ext cx="825480" cy="261000"/>
              <a:chOff x="725040" y="4779360"/>
              <a:chExt cx="825480" cy="261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25040" y="47793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64320" y="47793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59680" y="477936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933480" y="477792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06320" y="5184720"/>
            <a:ext cx="863640" cy="298440"/>
            <a:chOff x="706320" y="5184720"/>
            <a:chExt cx="863640" cy="298440"/>
          </a:xfrm>
        </p:grpSpPr>
        <p:grpSp>
          <p:nvGrpSpPr>
            <p:cNvPr id="142" name=""/>
            <p:cNvGrpSpPr/>
            <p:nvPr/>
          </p:nvGrpSpPr>
          <p:grpSpPr>
            <a:xfrm>
              <a:off x="706320" y="5184720"/>
              <a:ext cx="863640" cy="298440"/>
              <a:chOff x="706320" y="5184720"/>
              <a:chExt cx="863640" cy="298440"/>
            </a:xfrm>
          </p:grpSpPr>
          <p:sp>
            <p:nvSpPr>
              <p:cNvPr id="143" name=""/>
              <p:cNvSpPr/>
              <p:nvPr/>
            </p:nvSpPr>
            <p:spPr>
              <a:xfrm>
                <a:off x="706320" y="51847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0440" y="51847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" y="518472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25040" y="5203080"/>
              <a:ext cx="825480" cy="261000"/>
              <a:chOff x="725040" y="5203080"/>
              <a:chExt cx="825480" cy="261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25040" y="52030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4320" y="52030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9680" y="520308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933480" y="520164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6320" y="5608800"/>
            <a:ext cx="863640" cy="298440"/>
            <a:chOff x="706320" y="5608800"/>
            <a:chExt cx="863640" cy="298440"/>
          </a:xfrm>
        </p:grpSpPr>
        <p:grpSp>
          <p:nvGrpSpPr>
            <p:cNvPr id="152" name=""/>
            <p:cNvGrpSpPr/>
            <p:nvPr/>
          </p:nvGrpSpPr>
          <p:grpSpPr>
            <a:xfrm>
              <a:off x="706320" y="5608800"/>
              <a:ext cx="863640" cy="298440"/>
              <a:chOff x="706320" y="5608800"/>
              <a:chExt cx="863640" cy="298440"/>
            </a:xfrm>
          </p:grpSpPr>
          <p:sp>
            <p:nvSpPr>
              <p:cNvPr id="153" name=""/>
              <p:cNvSpPr/>
              <p:nvPr/>
            </p:nvSpPr>
            <p:spPr>
              <a:xfrm>
                <a:off x="706320" y="56088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70440" y="560880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7080" y="560880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25040" y="5627160"/>
              <a:ext cx="825480" cy="261000"/>
              <a:chOff x="725040" y="5627160"/>
              <a:chExt cx="825480" cy="261000"/>
            </a:xfrm>
          </p:grpSpPr>
          <p:sp>
            <p:nvSpPr>
              <p:cNvPr id="157" name=""/>
              <p:cNvSpPr/>
              <p:nvPr/>
            </p:nvSpPr>
            <p:spPr>
              <a:xfrm>
                <a:off x="725040" y="56271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64320" y="562716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9680" y="562716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933480" y="562572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6320" y="6032520"/>
            <a:ext cx="863640" cy="298440"/>
            <a:chOff x="706320" y="6032520"/>
            <a:chExt cx="863640" cy="298440"/>
          </a:xfrm>
        </p:grpSpPr>
        <p:grpSp>
          <p:nvGrpSpPr>
            <p:cNvPr id="162" name=""/>
            <p:cNvGrpSpPr/>
            <p:nvPr/>
          </p:nvGrpSpPr>
          <p:grpSpPr>
            <a:xfrm>
              <a:off x="706320" y="6032520"/>
              <a:ext cx="863640" cy="298440"/>
              <a:chOff x="706320" y="6032520"/>
              <a:chExt cx="863640" cy="298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6320" y="60325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70440" y="603252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7080" y="603252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25040" y="6050880"/>
              <a:ext cx="825480" cy="261000"/>
              <a:chOff x="725040" y="6050880"/>
              <a:chExt cx="825480" cy="261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25040" y="60508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64320" y="605088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9680" y="605088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933480" y="604944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06320" y="6458040"/>
            <a:ext cx="863640" cy="298440"/>
            <a:chOff x="706320" y="6458040"/>
            <a:chExt cx="863640" cy="298440"/>
          </a:xfrm>
        </p:grpSpPr>
        <p:grpSp>
          <p:nvGrpSpPr>
            <p:cNvPr id="172" name=""/>
            <p:cNvGrpSpPr/>
            <p:nvPr/>
          </p:nvGrpSpPr>
          <p:grpSpPr>
            <a:xfrm>
              <a:off x="706320" y="6458040"/>
              <a:ext cx="863640" cy="298440"/>
              <a:chOff x="706320" y="6458040"/>
              <a:chExt cx="863640" cy="298440"/>
            </a:xfrm>
          </p:grpSpPr>
          <p:sp>
            <p:nvSpPr>
              <p:cNvPr id="173" name=""/>
              <p:cNvSpPr/>
              <p:nvPr/>
            </p:nvSpPr>
            <p:spPr>
              <a:xfrm>
                <a:off x="706320" y="64580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70440" y="64580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7080" y="645804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25040" y="6476400"/>
              <a:ext cx="825480" cy="261000"/>
              <a:chOff x="725040" y="6476400"/>
              <a:chExt cx="825480" cy="261000"/>
            </a:xfrm>
          </p:grpSpPr>
          <p:sp>
            <p:nvSpPr>
              <p:cNvPr id="177" name=""/>
              <p:cNvSpPr/>
              <p:nvPr/>
            </p:nvSpPr>
            <p:spPr>
              <a:xfrm>
                <a:off x="725040" y="64764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64320" y="64764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9680" y="647640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933480" y="647496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6320" y="520560"/>
            <a:ext cx="863640" cy="298440"/>
            <a:chOff x="706320" y="520560"/>
            <a:chExt cx="863640" cy="298440"/>
          </a:xfrm>
        </p:grpSpPr>
        <p:grpSp>
          <p:nvGrpSpPr>
            <p:cNvPr id="182" name=""/>
            <p:cNvGrpSpPr/>
            <p:nvPr/>
          </p:nvGrpSpPr>
          <p:grpSpPr>
            <a:xfrm>
              <a:off x="706320" y="520560"/>
              <a:ext cx="863640" cy="298440"/>
              <a:chOff x="706320" y="520560"/>
              <a:chExt cx="863640" cy="298440"/>
            </a:xfrm>
          </p:grpSpPr>
          <p:sp>
            <p:nvSpPr>
              <p:cNvPr id="183" name=""/>
              <p:cNvSpPr/>
              <p:nvPr/>
            </p:nvSpPr>
            <p:spPr>
              <a:xfrm>
                <a:off x="706320" y="5205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70440" y="52056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47080" y="52056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25040" y="538920"/>
              <a:ext cx="825480" cy="261000"/>
              <a:chOff x="725040" y="538920"/>
              <a:chExt cx="825480" cy="261000"/>
            </a:xfrm>
          </p:grpSpPr>
          <p:sp>
            <p:nvSpPr>
              <p:cNvPr id="187" name=""/>
              <p:cNvSpPr/>
              <p:nvPr/>
            </p:nvSpPr>
            <p:spPr>
              <a:xfrm>
                <a:off x="725040" y="5389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64320" y="53892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59680" y="53892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933480" y="53748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06320" y="96840"/>
            <a:ext cx="863640" cy="298440"/>
            <a:chOff x="706320" y="96840"/>
            <a:chExt cx="863640" cy="298440"/>
          </a:xfrm>
        </p:grpSpPr>
        <p:grpSp>
          <p:nvGrpSpPr>
            <p:cNvPr id="192" name=""/>
            <p:cNvGrpSpPr/>
            <p:nvPr/>
          </p:nvGrpSpPr>
          <p:grpSpPr>
            <a:xfrm>
              <a:off x="706320" y="96840"/>
              <a:ext cx="863640" cy="298440"/>
              <a:chOff x="706320" y="96840"/>
              <a:chExt cx="863640" cy="298440"/>
            </a:xfrm>
          </p:grpSpPr>
          <p:sp>
            <p:nvSpPr>
              <p:cNvPr id="193" name=""/>
              <p:cNvSpPr/>
              <p:nvPr/>
            </p:nvSpPr>
            <p:spPr>
              <a:xfrm>
                <a:off x="706320" y="968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70440" y="96840"/>
                <a:ext cx="299520" cy="298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" y="96840"/>
                <a:ext cx="564120" cy="29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25040" y="115200"/>
              <a:ext cx="825480" cy="261000"/>
              <a:chOff x="725040" y="115200"/>
              <a:chExt cx="825480" cy="261000"/>
            </a:xfrm>
          </p:grpSpPr>
          <p:sp>
            <p:nvSpPr>
              <p:cNvPr id="197" name=""/>
              <p:cNvSpPr/>
              <p:nvPr/>
            </p:nvSpPr>
            <p:spPr>
              <a:xfrm>
                <a:off x="725040" y="1152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64320" y="115200"/>
                <a:ext cx="286200" cy="26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59680" y="115200"/>
                <a:ext cx="53928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933480" y="113760"/>
              <a:ext cx="408960" cy="264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87400" y="8892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6520" y="8748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7400" y="512640"/>
            <a:ext cx="31449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6520" y="51120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93672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6520" y="93492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7400" y="136224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6520" y="136044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7400" y="178596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6520" y="178452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221148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6520" y="220968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263520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6520" y="263376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87400" y="305928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6520" y="305748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85960" y="3484440"/>
            <a:ext cx="31449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4720" y="348300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85960" y="390852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4720" y="390672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5960" y="433404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4720" y="433224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85960" y="475776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4720" y="475632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5960" y="518148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4720" y="518004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5960" y="560700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4720" y="560556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85960" y="6031080"/>
            <a:ext cx="31449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4720" y="602928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85960" y="6456240"/>
            <a:ext cx="31449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4720" y="6454800"/>
            <a:ext cx="3863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840" y="8892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840" y="512640"/>
            <a:ext cx="41760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840" y="93672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840" y="136224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840" y="178596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40" y="221148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840" y="263520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840" y="3059280"/>
            <a:ext cx="4176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400" y="3484440"/>
            <a:ext cx="4172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400" y="390852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0" y="433404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0" y="475776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0" y="518148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0" y="560700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0" y="6031080"/>
            <a:ext cx="417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00" y="6456240"/>
            <a:ext cx="4172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4:45:59Z</dcterms:created>
  <dc:creator>Desktop Support - ITG</dc:creator>
  <dc:description/>
  <dc:language>en-US</dc:language>
  <cp:lastModifiedBy>Desktop Support - ITG</cp:lastModifiedBy>
  <cp:lastPrinted>2000-07-12T16:53:47Z</cp:lastPrinted>
  <dcterms:modified xsi:type="dcterms:W3CDTF">2000-07-12T18:20:47Z</dcterms:modified>
  <cp:revision>1</cp:revision>
  <dc:subject/>
  <dc:title>No Slide Title</dc:title>
</cp:coreProperties>
</file>